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CE5-DE1C-451C-9872-08A2A7F5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EED-8E7D-4857-9B5F-168E85C3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5AB-8967-4E67-B0EF-D13C6D47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66D-4263-4485-ABB3-0D70988D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217-93F0-47E7-BA4D-857BEC5E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B5F-75EA-4AD4-A038-DE35771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4F1-0669-4C69-A68E-7890DDEB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83E-F485-430A-8C7A-DF9E0E93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918-206E-482C-A008-30B9DECB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DEC-A03F-4D57-BC49-6475603D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CD4-E2B5-4F75-AA62-CB04CC5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454-AE64-4C64-8BB6-881A0FFA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BCD5-C013-4112-BFCD-B82228B9A8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بو دقوشتو</a:t>
            </a:r>
            <a:br>
              <a:rPr sz="8800"/>
            </a:br>
            <a:r>
              <a:rPr b="1" i="1" lang="ar-SA" sz="8800" spc="-1" strike="noStrike">
                <a:solidFill>
                  <a:srgbClr val="ffffff"/>
                </a:solidFill>
                <a:latin typeface="Arial"/>
                <a:ea typeface="Akhbar MT"/>
              </a:rPr>
              <a:t>(ترتيلة كان يرددها</a:t>
            </a:r>
            <a:br>
              <a:rPr sz="8800"/>
            </a:br>
            <a:r>
              <a:rPr b="1" i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ر شربل في قداسه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Traditional Arabic"/>
              </a:rPr>
              <a:t>أَبُو دْقُوشْتُو، هُا برُخْ دِبْحاُ دَمْرَعِه لُخْ لْهُنُا قَبِل، دَحْلُفَي مِيتْ واتحاسِه بِ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أبَ الحقّ، ها هوّذا ، ابنكَ الحبيب، ذبيحةً ترضيك فاقبله، لأنه ماتَ لأجلي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اُ قُوربُنا، سَبْ مِنْ إِيدَيْ، وِاتْراعُا لي، ولاُ تِتدْخَر لي حْطُهِا دسِعْرِتْ قْدُمْ رَبُوتُخ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0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خذ هذا القربان من يديّ، وارضَ عنّي، ولا تذكر لي خطايايَ التي فعلتها أمام عظمت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ُا دْمه أَشِيدْ عَلْ غُغُولتُو مِتُلْ فُورْقُنْ وْبُعِه حْلُفَي قَبِل بُاعوتْ مِتُولُتِه كْمُو لي حَوْبِه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93236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ذا دمه المسفوك على الجلجلة لأجل خلاصي.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نه يتوسّل من أجلي، فاقبل توسّله، بسببه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كْمُو لُخْ رَحْمِه إن تُقِلْ آت، حْنُنُخْ نُتَعْ تُبْ مِنْ طُورِه دَتْقِيلِينْ لُخْ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قدر ما عندي من خطايا، عندك انت من المراحم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إن وزنتها، يرجح حنانك على ثقل الجبا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حُورْ بَحْطُهِهْ وْحُورْ بَعْلُتُو دَحْلُيْفَيْهُونْ. وْسَغِي رَابُو عِلْتُا وْدِبْحُو مِنْ حَوْبوتو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نظر الخطايا وانظر ما حصل عنها من توب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التوبة والضحية تتخطّان الخطايا بكث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ِتُلْ دَحْطِيتْ صِصِا ورومحُو سْبَلْ حَبِيبُخْ وسُفْقِينْ حَشَوْ دَنْرَعُونُخْ وَبْهونْ إيحِه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لأنّني خطئتُ احتمل  ابنك المسامير والحرب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في آلامه ما يرضيك وأحيا بها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شوبحو لابو دْشَدَر لَبْرِه مِتُلُتَنْ وْسِغِدْتو لَبْرُو، دبزقيفوتِه حَرَرْ خولُو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جدُ للآب الذي أرسل ابنه من أجل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السجود للابن الذي بصلبه حرّرنا جميعا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َوْدي لروحو دْبِه إشتَمْلي رُزْ فورقونَنْ. بريخ دَبْحوبِه أَحِي لْخُلَنْ ولِه تِشْبوحتو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لشكر للروح الذي به تمّ سرّ خلاص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بارك من يحبّه احيانا جميعاً. فله المج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1:36:41Z</dcterms:created>
  <dc:creator>Charbel Azar</dc:creator>
  <dc:description/>
  <dc:language>en-US</dc:language>
  <cp:lastModifiedBy>ف</cp:lastModifiedBy>
  <dcterms:modified xsi:type="dcterms:W3CDTF">2007-07-10T19:57:56Z</dcterms:modified>
  <cp:revision>4</cp:revision>
  <dc:subject/>
  <dc:title>أَبُو دْقُوشْتُو، هُا برُخْ دِبْحاُ دَمْرَعي لُخْ لْهُنُا قَبِل، دَحْلُفَي مِيتْ واتحاسِي بِه</dc:title>
</cp:coreProperties>
</file>